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23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6.png" ContentType="image/png"/>
  <Override PartName="/ppt/media/image24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4.wmf" ContentType="image/x-wmf"/>
  <Override PartName="/ppt/media/image3.jpeg" ContentType="image/jpeg"/>
  <Override PartName="/ppt/media/image15.png" ContentType="image/png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F35-093F-46EA-BDE0-5F062D21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0F99-FAD7-4A56-A156-95B5A787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7E4-5936-468F-9277-CA8BC308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BCF-41D4-4A8D-851F-95C46155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19B-9BAA-4A03-AEFF-435FFF48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162-81E7-426A-AF2E-F5F28421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D5B7-FF45-4803-BCE0-3423021B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FCD-E7FB-43D7-8C62-39FA3C50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FA8-57E8-479A-9CA5-BF1B2461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B2E-A3ED-44F3-98F9-C5A97AC9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881-A324-4D47-A686-73C015FF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709-4120-4442-91A9-641936DE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DA38-EC42-4D12-9A5D-1712BA205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Power point about 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By, Mackenzie Shul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05320" y="4724280"/>
            <a:ext cx="187632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My hou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My House Is K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3880" y="2743200"/>
            <a:ext cx="6172200" cy="383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629400" y="380880"/>
            <a:ext cx="1828800" cy="1832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990720" y="3200400"/>
            <a:ext cx="1755720" cy="1860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867280" y="2743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85800" y="4038480"/>
            <a:ext cx="1812960" cy="174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6172200" y="4267080"/>
            <a:ext cx="1558800" cy="1784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7162920" y="5791320"/>
            <a:ext cx="53316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friend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 Awesome!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76760" y="2527200"/>
            <a:ext cx="3538440" cy="3187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1841760" cy="1876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178760" y="0"/>
            <a:ext cx="150804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419720" y="3124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My schoo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 Ultra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Cedar Grove Belgium School! Go Rocke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76520" y="297180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My lif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Is Kool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343640" y="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5057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668760" y="2538360"/>
            <a:ext cx="1806480" cy="1779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553080" y="4800600"/>
            <a:ext cx="1841760" cy="1101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914400" y="2514600"/>
            <a:ext cx="1841400" cy="1584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886200" y="5029200"/>
            <a:ext cx="1219320" cy="1089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447920" y="4419720"/>
            <a:ext cx="1866960" cy="1155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5181480" y="990720"/>
            <a:ext cx="1778040" cy="1319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6400800" y="2514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20:54Z</dcterms:created>
  <dc:creator>CGB</dc:creator>
  <dc:description/>
  <dc:language>en-US</dc:language>
  <cp:lastModifiedBy>CGB</cp:lastModifiedBy>
  <dcterms:modified xsi:type="dcterms:W3CDTF">2008-06-04T14:01:03Z</dcterms:modified>
  <cp:revision>7</cp:revision>
  <dc:subject/>
  <dc:title>Power point about me!</dc:title>
</cp:coreProperties>
</file>